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7.png" ContentType="image/pn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A6E28-F77A-4A77-B4C7-B713262DA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A9D7-2971-4C00-B943-AB621D57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2558F-934B-4055-950C-7B930DA03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22AFE-15F4-4E76-9F3A-FB2BD94BD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23AB2-8749-44B3-BE43-A2E9DD3A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13501-5160-4464-8EE7-0E115234A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6F247-110F-436F-8F3B-F3C85F747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3F291-6336-45AD-BB6C-0C951376A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995C-6D10-4062-BC6E-D34B29A47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B96A-0E36-4918-827E-36D41432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33AE7-85B0-40D5-B69B-E0CEA6463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18A5A-AFBF-476D-BE00-219E3A1E3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7426-E5F5-44A9-BE46-4AE5DA967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ourses.missouristate.edu/ejm893f/creative/glg110/Weathering.htm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u="sng">
                <a:solidFill>
                  <a:srgbClr val="0000ff"/>
                </a:solidFill>
                <a:uFillTx/>
                <a:latin typeface="Arial"/>
              </a:rPr>
              <a:t>WEATHERING</a:t>
            </a:r>
            <a:endParaRPr b="0" lang="en-US" sz="8800" spc="-1" strike="noStrike">
              <a:solidFill>
                <a:srgbClr val="000000"/>
              </a:solidFill>
              <a:latin typeface="Arial"/>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395280" y="297000"/>
            <a:ext cx="8353440" cy="626400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rost Action/Freeze-thaw</a:t>
            </a:r>
            <a:endParaRPr b="0" lang="en-US" sz="4400" spc="-1" strike="noStrike">
              <a:solidFill>
                <a:srgbClr val="000000"/>
              </a:solidFill>
              <a:latin typeface="Arial"/>
            </a:endParaRPr>
          </a:p>
        </p:txBody>
      </p:sp>
      <p:sp>
        <p:nvSpPr>
          <p:cNvPr id="55" name="PlaceHolder 2"/>
          <p:cNvSpPr>
            <a:spLocks noGrp="1"/>
          </p:cNvSpPr>
          <p:nvPr>
            <p:ph type="subTitle"/>
          </p:nvPr>
        </p:nvSpPr>
        <p:spPr>
          <a:xfrm>
            <a:off x="468360" y="1700280"/>
            <a:ext cx="8207280" cy="44654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seeps into small cracks in rocks. When the water freezes it expands up to 9% by volume creating great pressure. The crack widens and allows water to seep deeper into the rock. Eventually the rock splits into smaller pieces.</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95280" y="255600"/>
            <a:ext cx="8497800" cy="6373800"/>
          </a:xfrm>
          <a:prstGeom prst="rect">
            <a:avLst/>
          </a:prstGeom>
          <a:ln w="0">
            <a:noFill/>
          </a:ln>
        </p:spPr>
      </p:pic>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2"/>
          <a:stretch/>
        </p:blipFill>
        <p:spPr>
          <a:xfrm>
            <a:off x="179280" y="28440"/>
            <a:ext cx="8785440" cy="680112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320760"/>
            <a:ext cx="9144000" cy="6216480"/>
          </a:xfrm>
          <a:prstGeom prst="rect">
            <a:avLst/>
          </a:prstGeom>
          <a:ln w="0">
            <a:noFill/>
          </a:ln>
        </p:spPr>
      </p:pic>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2209680" y="279360"/>
            <a:ext cx="4724640" cy="6299280"/>
          </a:xfrm>
          <a:prstGeom prst="rect">
            <a:avLst/>
          </a:prstGeom>
          <a:ln w="0">
            <a:noFill/>
          </a:ln>
        </p:spPr>
      </p:pic>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Arial"/>
              </a:rPr>
              <a:t>BIOLOGICAL WEATHERING</a:t>
            </a:r>
            <a:endParaRPr b="0" lang="en-US" sz="8000" spc="-1" strike="noStrike">
              <a:solidFill>
                <a:srgbClr val="000000"/>
              </a:solidFill>
              <a:latin typeface="Arial"/>
            </a:endParaRPr>
          </a:p>
        </p:txBody>
      </p:sp>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occurs when vegetation establishes itself on top of thin soils. Root systems grow through these soils and start to invade the rock below the surface. As it does so the roots find weaknesses in the rock and exploit these weaknesses by growing into them and act as a wedge to break the rock apart.</a:t>
            </a:r>
            <a:endParaRPr b="0" lang="en-US" sz="3200" spc="-1" strike="noStrike">
              <a:solidFill>
                <a:srgbClr val="000000"/>
              </a:solidFill>
              <a:latin typeface="Arial"/>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24000" y="622080"/>
            <a:ext cx="8424720" cy="534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lant Roots--Physical Weathe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7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icture, plant roots have grown into the sedimentary rock creating cracks, and causing some of the wall to collapse, exposing the inner rock. Mass movement of weathered materials down slope often undermines the foundations of trees and causes them to lean in the direction of the stream valley as seen on the right side of this photo.</a:t>
            </a:r>
            <a:endParaRPr b="0" lang="en-US" sz="1600" spc="-1" strike="noStrike">
              <a:solidFill>
                <a:srgbClr val="000000"/>
              </a:solidFill>
              <a:latin typeface="Arial"/>
            </a:endParaRPr>
          </a:p>
        </p:txBody>
      </p:sp>
      <p:pic>
        <p:nvPicPr>
          <p:cNvPr id="65" name="" descr=""/>
          <p:cNvPicPr/>
          <p:nvPr/>
        </p:nvPicPr>
        <p:blipFill>
          <a:blip r:embed="rId2"/>
          <a:stretch/>
        </p:blipFill>
        <p:spPr>
          <a:xfrm>
            <a:off x="2124000" y="1268280"/>
            <a:ext cx="5400720" cy="3726000"/>
          </a:xfrm>
          <a:prstGeom prst="rect">
            <a:avLst/>
          </a:prstGeom>
          <a:ln w="0">
            <a:noFill/>
          </a:ln>
        </p:spPr>
      </p:pic>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0" y="525600"/>
            <a:ext cx="9144000" cy="580680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7200" spc="-1" strike="noStrike">
                <a:solidFill>
                  <a:srgbClr val="000000"/>
                </a:solidFill>
                <a:latin typeface="Arial"/>
              </a:rPr>
              <a:t>WEATHERING IS:</a:t>
            </a:r>
            <a:endParaRPr b="0" lang="en-US" sz="7200" spc="-1" strike="noStrike">
              <a:solidFill>
                <a:srgbClr val="000000"/>
              </a:solidFill>
              <a:latin typeface="Arial"/>
            </a:endParaRPr>
          </a:p>
        </p:txBody>
      </p:sp>
      <p:sp>
        <p:nvSpPr>
          <p:cNvPr id="43" name="PlaceHolder 2"/>
          <p:cNvSpPr>
            <a:spLocks noGrp="1"/>
          </p:cNvSpPr>
          <p:nvPr>
            <p:ph/>
          </p:nvPr>
        </p:nvSpPr>
        <p:spPr>
          <a:xfrm>
            <a:off x="457200" y="2924280"/>
            <a:ext cx="8229600" cy="320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gradual breakdown of rock which lies exposed to weather.</a:t>
            </a:r>
            <a:endParaRPr b="0" lang="en-US" sz="32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46080"/>
            <a:ext cx="9144000" cy="6765840"/>
          </a:xfrm>
          <a:prstGeom prst="rect">
            <a:avLst/>
          </a:prstGeom>
          <a:ln w="0">
            <a:noFill/>
          </a:ln>
        </p:spPr>
      </p:pic>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2290680" y="0"/>
            <a:ext cx="4562640" cy="6858000"/>
          </a:xfrm>
          <a:prstGeom prst="rect">
            <a:avLst/>
          </a:prstGeom>
          <a:ln w="0">
            <a:noFill/>
          </a:ln>
        </p:spPr>
      </p:pic>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2000160" y="0"/>
            <a:ext cx="5143680" cy="6858000"/>
          </a:xfrm>
          <a:prstGeom prst="rect">
            <a:avLst/>
          </a:prstGeom>
          <a:ln w="0">
            <a:noFill/>
          </a:ln>
        </p:spPr>
      </p:pic>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900000" y="1773360"/>
            <a:ext cx="72741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Arial"/>
              </a:rPr>
              <a:t>CHEMICAL WEATHERING</a:t>
            </a:r>
            <a:endParaRPr b="0" lang="en-US" sz="8000" spc="-1" strike="noStrike">
              <a:solidFill>
                <a:srgbClr val="000000"/>
              </a:solidFill>
              <a:latin typeface="Arial"/>
            </a:endParaRPr>
          </a:p>
        </p:txBody>
      </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Arial"/>
              </a:rPr>
              <a:t>OXIDATION</a:t>
            </a:r>
            <a:endParaRPr b="0" lang="en-US" sz="6000" spc="-1" strike="noStrike">
              <a:solidFill>
                <a:srgbClr val="000000"/>
              </a:solidFill>
              <a:latin typeface="Arial"/>
            </a:endParaRPr>
          </a:p>
        </p:txBody>
      </p:sp>
      <p:sp>
        <p:nvSpPr>
          <p:cNvPr id="7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occurs when certain metallic elements combine with oxygen to form oxides. The most common form is the “rusting” of iron in rocks that produces the reddish brown stain of iron oxide. The simple oxidation reaction in iron 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ron(Fe)+oxygen(O2)=iron oxide(Fe2O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 the iron is removed from the rock it becomes more susceptible to further weathering</a:t>
            </a:r>
            <a:endParaRPr b="0" lang="en-US" sz="32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468360" y="121680"/>
            <a:ext cx="7991280" cy="618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Oxidation--Chemical Weathe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3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icture shows that chemical weathering has taken place by oxidation. When we used the rock hammer to chop into the cream coloured clay layer in the bottom of the stream, we saw that the original colour of the clay was blue. The blue colour is a result of iron compounds containing ferrous iron. These compounds change to a cream colour when the material reacts with oxygen in the atmosphere changing the iron to its ferric form. Changing iron from its ferrous form to its ferric form is a typical oxidation chemical reaction.</a:t>
            </a:r>
            <a:endParaRPr b="0" lang="en-US" sz="1600" spc="-1" strike="noStrike">
              <a:solidFill>
                <a:srgbClr val="000000"/>
              </a:solidFill>
              <a:latin typeface="Arial"/>
            </a:endParaRPr>
          </a:p>
        </p:txBody>
      </p:sp>
      <p:pic>
        <p:nvPicPr>
          <p:cNvPr id="74" name="" descr=""/>
          <p:cNvPicPr/>
          <p:nvPr/>
        </p:nvPicPr>
        <p:blipFill>
          <a:blip r:embed="rId2"/>
          <a:stretch/>
        </p:blipFill>
        <p:spPr>
          <a:xfrm>
            <a:off x="2050920" y="620640"/>
            <a:ext cx="5267520" cy="368640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250920" y="606600"/>
            <a:ext cx="8642160" cy="564480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938160" y="905040"/>
            <a:ext cx="7267680" cy="504792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680"/>
            <a:ext cx="8147160" cy="22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Arial"/>
              </a:rPr>
              <a:t>TYPES OF WEATHERING</a:t>
            </a:r>
            <a:endParaRPr b="0" lang="en-US" sz="6000" spc="-1" strike="noStrike">
              <a:solidFill>
                <a:srgbClr val="000000"/>
              </a:solidFill>
              <a:latin typeface="Arial"/>
            </a:endParaRPr>
          </a:p>
        </p:txBody>
      </p:sp>
      <p:sp>
        <p:nvSpPr>
          <p:cNvPr id="45"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hysica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hemica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Biological</a:t>
            </a:r>
            <a:endParaRPr b="0" lang="en-US" sz="4000" spc="-1" strike="noStrike">
              <a:solidFill>
                <a:srgbClr val="000000"/>
              </a:solidFill>
              <a:latin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2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45">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anim calcmode="lin" valueType="num">
                                      <p:cBhvr additive="base">
                                        <p:cTn id="11" dur="2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2" dur="2000" fill="hold"/>
                                        <p:tgtEl>
                                          <p:spTgt spid="45">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anim calcmode="lin" valueType="num">
                                      <p:cBhvr additive="base">
                                        <p:cTn id="15" dur="2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6" dur="20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rPr>
              <a:t>Weathering</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341360"/>
            <a:ext cx="82296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800" spc="-1" strike="noStrike">
                <a:solidFill>
                  <a:srgbClr val="000000"/>
                </a:solidFill>
                <a:latin typeface="Arial"/>
              </a:rPr>
              <a:t>PHYSICAL WEATHERING</a:t>
            </a:r>
            <a:endParaRPr b="0" lang="en-US" sz="8800" spc="-1" strike="noStrike">
              <a:solidFill>
                <a:srgbClr val="000000"/>
              </a:solidFill>
              <a:latin typeface="Arial"/>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xfoliat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occurs when rock that has been formed at great pressures under the earths surface is uplifted. As the tremendous weight of the overburden on top of the rock is weathered and the rock exposed, the release in pressure from deep burial is removed. Because of this layer after layer of the rock peels off in curved slabs or sheets. Dome shaped features are the result of exfoliation.</a:t>
            </a:r>
            <a:endParaRPr b="0" lang="en-US" sz="32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179280" y="135000"/>
            <a:ext cx="8785440" cy="658800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250920" y="187200"/>
            <a:ext cx="8713800" cy="6535800"/>
          </a:xfrm>
          <a:prstGeom prst="rect">
            <a:avLst/>
          </a:prstGeom>
          <a:ln w="0">
            <a:noFill/>
          </a:ln>
        </p:spPr>
      </p:pic>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0920" y="565200"/>
            <a:ext cx="8713800" cy="577368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1:04:55Z</dcterms:created>
  <dc:creator>Ministry of Education</dc:creator>
  <dc:description/>
  <dc:language>en-US</dc:language>
  <cp:lastModifiedBy>Ministry of Education</cp:lastModifiedBy>
  <dcterms:modified xsi:type="dcterms:W3CDTF">2006-03-01T01:06:40Z</dcterms:modified>
  <cp:revision>5</cp:revision>
  <dc:subject/>
  <dc:title>WEATHERING</dc:title>
</cp:coreProperties>
</file>